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873-D57D-4C12-83EC-3C75E97A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494-CC18-46DE-B328-C17273D9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CD1-1DB2-4CF1-8283-BE77850C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664-9763-44F5-A599-D20E537D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AF4-A65C-4FF4-A5EB-13D8B3FA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F6D-2F13-4D1F-975F-D2177C17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830-4F33-4D97-BB4D-06B9EE36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B79-55D6-497B-9DE5-A8D17D7C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83C-5E67-439D-BE09-DCAB99B7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2F0-6C88-4D4A-86EC-F357B5F6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D55-149C-4AD3-87DB-33876362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B6C-FD65-4162-8FDC-BCD18B60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9108-FEA2-4525-B675-C4F127D31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lculus Textbook Table of Contents (pg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680688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7652" t="18054" r="16438" b="27787"/>
          <a:stretch/>
        </p:blipFill>
        <p:spPr>
          <a:xfrm>
            <a:off x="1219320" y="685800"/>
            <a:ext cx="4314600" cy="571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30666" t="4278" r="10188" b="74385"/>
          <a:stretch/>
        </p:blipFill>
        <p:spPr>
          <a:xfrm>
            <a:off x="1600200" y="6324480"/>
            <a:ext cx="3962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lculus Textbook Table of Contents (pg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360" y="680688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3842" t="29686" r="10188" b="-821"/>
          <a:stretch/>
        </p:blipFill>
        <p:spPr>
          <a:xfrm>
            <a:off x="1219320" y="838080"/>
            <a:ext cx="4419360" cy="53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4467" t="3369" r="1256" b="70723"/>
          <a:stretch/>
        </p:blipFill>
        <p:spPr>
          <a:xfrm>
            <a:off x="1295280" y="6248520"/>
            <a:ext cx="4876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lculus Textbook Table of Contents (pg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360" y="680688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4467" t="29282" r="1256" b="-793"/>
          <a:stretch/>
        </p:blipFill>
        <p:spPr>
          <a:xfrm>
            <a:off x="1066680" y="685800"/>
            <a:ext cx="4876920" cy="525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20886" t="3155" r="8541" b="53979"/>
          <a:stretch/>
        </p:blipFill>
        <p:spPr>
          <a:xfrm>
            <a:off x="990720" y="5867280"/>
            <a:ext cx="4800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lculus Textbook Table of Contents (pg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680688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0886" t="47024" r="8541" b="20081"/>
          <a:stretch/>
        </p:blipFill>
        <p:spPr>
          <a:xfrm>
            <a:off x="990720" y="685800"/>
            <a:ext cx="480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ie Wetmore</cp:lastModifiedBy>
  <dcterms:modified xsi:type="dcterms:W3CDTF">2011-10-28T13:42:0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